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B6742-295A-4165-ABC3-91879A2DE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CB89-4C2B-407B-9E7D-008329AE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AA3FE-001F-4D50-83CD-1097506FC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49476-62E0-42BC-A056-75400C6C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A751B-7465-49F8-B195-5453FC062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58407-4E04-4031-A56B-B71B157E2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ADCB9-6D72-4D32-BCFC-B0527EE7F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F23AF-E7F8-4296-BB65-0A451452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BC891-46DC-4BDE-BB3A-4718795BB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E6B03-A9CA-4C85-9E92-D6D0ADCAC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F8CA-CF6D-40E6-8792-C2456E706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0EB49-E10A-4783-9391-CD9F9CF0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BDBF-A54D-49B0-AE72-FC62FFC74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605DC-B796-4B68-A21B-B182DF6A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B8006-8A9B-4EC6-9643-16F47491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63EBE-221C-4703-A055-5B301B0D9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C3DB2-D84C-4363-8320-2F12628D2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9EB2-8287-4CF8-87F6-E3C6F650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4EEFC-0EE1-4CBD-AE6C-4BCC8BB95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912E-C732-40C7-876B-C04E5010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499B-5A68-421E-9581-AC8132486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45194-7146-4850-8FFF-78136E0C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79DF-11C3-4A70-8D35-0325B3F5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418AF-5A75-46F7-9947-1B31E8D43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530A-7F04-44BA-ADC6-9EF4D561717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240" y="6241680"/>
            <a:ext cx="28954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ame] - PB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276720" y="6534000"/>
            <a:ext cx="213336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3374-B4B0-4439-BB95-04B33FAFA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107E-E074-4F00-A616-D0A4DE9B416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Project Name] - PBR</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4A72-7BAD-460B-90D9-0F05D94334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hs.gov/web/policies/checklistpdf.html"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57200" y="609480"/>
            <a:ext cx="8077320" cy="576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Baseline Review  (PBR) Templ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sion 1.0 – July,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document is a template for the PB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tions should not be removed from the presentation.  If a section is not applicable, please indicate such and provide an explan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itional slides may be added to convey information that you feel is important to share but is not addressed by this templ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lease ensure that your presentation is Section 508-compliant by following the checklist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http://www.hhs.gov/web/policies/checklistpdf.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LETE THIS SLIDE BEFORE FINALIZ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R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66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Work Breakdown Structure  (WBS)</a:t>
            </a:r>
            <a:endParaRPr b="0" lang="en-US" sz="4000" spc="-1" strike="noStrike">
              <a:solidFill>
                <a:srgbClr val="000000"/>
              </a:solidFill>
              <a:latin typeface="Arial Rounded MT Bold"/>
            </a:endParaRPr>
          </a:p>
        </p:txBody>
      </p:sp>
      <p:sp>
        <p:nvSpPr>
          <p:cNvPr id="11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1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B23E-D983-4728-9556-A4669AF58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
          <p:cNvSpPr txBox="1"/>
          <p:nvPr/>
        </p:nvSpPr>
        <p:spPr>
          <a:xfrm>
            <a:off x="456840" y="2971800"/>
            <a:ext cx="8077320" cy="23623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work breakdown structure (WBS) to level 3 from Section 5.3 of the Project Management Plan. Also, along with this presentation, send WBS and schedule files for revie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52B6-2561-408F-8609-7690A378D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tegrated Project Schedule</a:t>
            </a:r>
            <a:endParaRPr b="0" lang="en-US" sz="4000" spc="-1" strike="noStrike">
              <a:solidFill>
                <a:srgbClr val="000000"/>
              </a:solidFill>
              <a:latin typeface="Arial Rounded MT Bold"/>
            </a:endParaRPr>
          </a:p>
        </p:txBody>
      </p:sp>
      <p:sp>
        <p:nvSpPr>
          <p:cNvPr id="119"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0"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proposed high-level schedule developed in accordance with Section 6.2 of the Project Management Plan. This may include a screen shot of the Gantt chart.]</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cess for identifying and managing risks from Section 8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8A7C-365D-4A4C-B3CF-C1FB44FDD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Management</a:t>
            </a:r>
            <a:endParaRPr b="0" lang="en-US" sz="4000" spc="-1" strike="noStrike">
              <a:solidFill>
                <a:srgbClr val="000000"/>
              </a:solidFill>
              <a:latin typeface="Arial Rounded MT Bold"/>
            </a:endParaRPr>
          </a:p>
        </p:txBody>
      </p:sp>
      <p:sp>
        <p:nvSpPr>
          <p:cNvPr id="12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E19A-2AD6-4721-B7B2-1EA570128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Roster</a:t>
            </a:r>
            <a:endParaRPr b="0" lang="en-US" sz="4000" spc="-1" strike="noStrike">
              <a:solidFill>
                <a:srgbClr val="000000"/>
              </a:solidFill>
              <a:latin typeface="Arial Rounded MT Bold"/>
            </a:endParaRPr>
          </a:p>
        </p:txBody>
      </p:sp>
      <p:sp>
        <p:nvSpPr>
          <p:cNvPr id="12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8"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a list of major risks to include risk description, impact rating, probability rating, and risk response strategy]</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92C0-FDFA-4452-82C7-90B2B74C5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Financial Considerations</a:t>
            </a:r>
            <a:endParaRPr b="0" lang="en-US" sz="4000" spc="-1" strike="noStrike">
              <a:solidFill>
                <a:srgbClr val="000000"/>
              </a:solidFill>
              <a:latin typeface="Arial Rounded MT Bold"/>
            </a:endParaRPr>
          </a:p>
        </p:txBody>
      </p:sp>
      <p:sp>
        <p:nvSpPr>
          <p:cNvPr id="131"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2" name="Content Placeholder 2"/>
          <p:cNvSpPr/>
          <p:nvPr/>
        </p:nvSpPr>
        <p:spPr>
          <a:xfrm>
            <a:off x="457200" y="2971800"/>
            <a:ext cx="8077320" cy="2286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funding sources for all project component costs for the preferred solution. This should include consideration of items such as capital costs, operating costs, total cost of ownership, impact on other projects, funding requirements, etc. from Section 8.1 of the Business Case.]</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munication Management</a:t>
            </a:r>
            <a:endParaRPr b="0" lang="en-US" sz="4000" spc="-1" strike="noStrike">
              <a:solidFill>
                <a:srgbClr val="000000"/>
              </a:solidFill>
              <a:latin typeface="Arial Rounded MT Bold"/>
            </a:endParaRPr>
          </a:p>
        </p:txBody>
      </p:sp>
      <p:sp>
        <p:nvSpPr>
          <p:cNvPr id="13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E6A2-CAAC-4E25-AF60-BF6C7FF5F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
          <p:cNvSpPr txBox="1"/>
          <p:nvPr/>
        </p:nvSpPr>
        <p:spPr>
          <a:xfrm>
            <a:off x="457200" y="2971800"/>
            <a:ext cx="8229600" cy="17524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tocol for conducting effective project communications to help manage project team and stakeholder expectations and prevent un-channeled communication. (From Section 7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ange Management</a:t>
            </a:r>
            <a:endParaRPr b="0" lang="en-US" sz="4000" spc="-1" strike="noStrike">
              <a:solidFill>
                <a:srgbClr val="000000"/>
              </a:solidFill>
              <a:latin typeface="Arial Rounded MT Bold"/>
            </a:endParaRPr>
          </a:p>
        </p:txBody>
      </p:sp>
      <p:sp>
        <p:nvSpPr>
          <p:cNvPr id="138"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9"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4BB3-0CFB-4259-A135-D63F8AA76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
          <p:cNvSpPr txBox="1"/>
          <p:nvPr/>
        </p:nvSpPr>
        <p:spPr>
          <a:xfrm>
            <a:off x="457200" y="2895480"/>
            <a:ext cx="8229600" cy="19051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fine the approach, administrative procedures, roles and responsibilities for submitting, evaluating, coordinating, approving or disapproving business and technical changes to baselined configuration items for the project. See Section 10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0E51-3AA0-4DD5-BF5E-30EC5FAA7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2514600"/>
            <a:ext cx="8229600" cy="2743200"/>
          </a:xfrm>
          <a:prstGeom prst="rect">
            <a:avLst/>
          </a:prstGeom>
          <a:noFill/>
          <a:ln w="0">
            <a:noFill/>
          </a:ln>
        </p:spPr>
        <p:txBody>
          <a:bodyPr anchor="t">
            <a:normAutofit/>
          </a:bodyPr>
          <a:p>
            <a:pPr lvl="1"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t a high level the overall strategy for segmenting the delivery of the business product/code into specific releases from Section 5.2 of the Release Plan, if applicable.]</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2"/>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elease Strategy</a:t>
            </a:r>
            <a:endParaRPr b="0" lang="en-US" sz="4000" spc="-1" strike="noStrike">
              <a:solidFill>
                <a:srgbClr val="000000"/>
              </a:solidFill>
              <a:latin typeface="Arial Rounded MT Bold"/>
            </a:endParaRPr>
          </a:p>
        </p:txBody>
      </p:sp>
      <p:sp>
        <p:nvSpPr>
          <p:cNvPr id="14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76520"/>
            <a:ext cx="777240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clusion of</a:t>
            </a:r>
            <a:br>
              <a:rPr sz="4400"/>
            </a:b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146"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590920"/>
            <a:ext cx="8229600" cy="18288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the individuals who will make the presentation, indicating their roles and/or organizations.</a:t>
            </a: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lease note that the Business Owner must be present.]</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esenters</a:t>
            </a:r>
            <a:endParaRPr b="0" lang="en-US" sz="4000" spc="-1" strike="noStrike">
              <a:solidFill>
                <a:srgbClr val="000000"/>
              </a:solidFill>
              <a:latin typeface="Arial Rounded MT Bold"/>
            </a:endParaRPr>
          </a:p>
        </p:txBody>
      </p:sp>
      <p:sp>
        <p:nvSpPr>
          <p:cNvPr id="8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88"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6B9A-BA2A-44C4-AAA2-9BE7F5852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523520"/>
            <a:ext cx="8229600" cy="480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Business Need, Goals/Scope/Purpose, and Stakeholders from the project’s Project Startup Review (PSR) Presentation.  If PSR Presentation is not available, follow guidance provided in each section below.]</a:t>
            </a: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Business Need</a:t>
            </a:r>
            <a:endParaRPr b="0" lang="en-US" sz="2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business need and drivers from Section 3.2 of the Business Process Model Description, if available, or from Sections 4.1 &amp; 4.3 of the Business Case or from PSR Presentation]</a:t>
            </a:r>
            <a:endParaRPr b="0" lang="en-US" sz="16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Goals/Scope/Purpose</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goals/scope from section 4.2 of the Business Case and the business and functional purpose from sections 3.1 &amp; 3.2 of the Requirements Document or from PSR Presentation]</a:t>
            </a:r>
            <a:endParaRPr b="0" lang="en-US" sz="1600" spc="-1" strike="noStrike">
              <a:solidFill>
                <a:srgbClr val="000000"/>
              </a:solidFill>
              <a:latin typeface="Verdana"/>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takeholders</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ert stakeholder information from </a:t>
            </a:r>
            <a:r>
              <a:rPr b="0" i="1" lang="en-US" sz="1600" spc="-1" strike="noStrike">
                <a:solidFill>
                  <a:srgbClr val="000000"/>
                </a:solidFill>
                <a:latin typeface="Verdana"/>
              </a:rPr>
              <a:t>Section 3.3 of the Business Process Model Description, if available, or from </a:t>
            </a:r>
            <a:r>
              <a:rPr b="0" lang="en-US" sz="1600" spc="-1" strike="noStrike">
                <a:solidFill>
                  <a:srgbClr val="000000"/>
                </a:solidFill>
                <a:latin typeface="Verdana"/>
              </a:rPr>
              <a:t>Section 4.4 of the Business Case or from PSR Presentation]</a:t>
            </a:r>
            <a:endParaRPr b="0" lang="en-US" sz="1600" spc="-1" strike="noStrike">
              <a:solidFill>
                <a:srgbClr val="000000"/>
              </a:solidFill>
              <a:latin typeface="Verdana"/>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Information</a:t>
            </a:r>
            <a:endParaRPr b="0" lang="en-US" sz="4000" spc="-1" strike="noStrike">
              <a:solidFill>
                <a:srgbClr val="000000"/>
              </a:solidFill>
              <a:latin typeface="Arial Rounded MT Bold"/>
            </a:endParaRPr>
          </a:p>
        </p:txBody>
      </p:sp>
      <p:sp>
        <p:nvSpPr>
          <p:cNvPr id="9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69FB-9FAA-4D37-B4E8-EFA6F8F57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6"/>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B5BA-57EA-42DF-BD0C-711FEFFDF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457200" y="1600200"/>
            <a:ext cx="8229600" cy="49528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System Scope, High Level Functional Requirements, and Summary of Changes from the project’s PSR Presentation.  If PSR Presentation is not available, follow guidance provided in each section below.]</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Scope</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ystem scope from Section 4.3.1 of the  High-Level Technical Design.]</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High Level Functional Requirement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high level functional requirements from Section 4.3.3 of the High Level Technical Design.]</a:t>
            </a:r>
            <a:endParaRPr b="0" lang="en-US" sz="16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ummary of Change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ummary of changes of the current system from Section 4.3.4 of the High-Level Technical Design, if applicable.]</a:t>
            </a:r>
            <a:endParaRPr b="0" lang="en-US" sz="1600" spc="-1" strike="noStrike">
              <a:solidFill>
                <a:srgbClr val="000000"/>
              </a:solidFill>
              <a:latin typeface="Verdana"/>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posed System</a:t>
            </a:r>
            <a:endParaRPr b="0" lang="en-US" sz="4000" spc="-1" strike="noStrike">
              <a:solidFill>
                <a:srgbClr val="000000"/>
              </a:solidFill>
              <a:latin typeface="Arial Rounded MT Bold"/>
            </a:endParaRPr>
          </a:p>
        </p:txBody>
      </p:sp>
      <p:sp>
        <p:nvSpPr>
          <p:cNvPr id="96"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sert the project scope statement from Section 5.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52A9-D6C0-47F5-BF76-B3F8228E8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Scope</a:t>
            </a:r>
            <a:endParaRPr b="0" lang="en-US" sz="4000" spc="-1" strike="noStrike">
              <a:solidFill>
                <a:srgbClr val="000000"/>
              </a:solidFill>
              <a:latin typeface="Arial Rounded MT Bold"/>
            </a:endParaRPr>
          </a:p>
        </p:txBody>
      </p:sp>
      <p:sp>
        <p:nvSpPr>
          <p:cNvPr id="100"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ssumptions</a:t>
            </a:r>
            <a:endParaRPr b="0" lang="en-US" sz="4400" spc="-1" strike="noStrike">
              <a:solidFill>
                <a:srgbClr val="000000"/>
              </a:solidFill>
              <a:latin typeface="Arial Rounded MT Bold"/>
            </a:endParaRPr>
          </a:p>
        </p:txBody>
      </p:sp>
      <p:sp>
        <p:nvSpPr>
          <p:cNvPr id="102"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3"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3FB1-3079-4758-A546-64F9AEA8D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assumptions or dependencies that may impact this project (from Section 4.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straints</a:t>
            </a:r>
            <a:endParaRPr b="0" lang="en-US" sz="4400" spc="-1" strike="noStrike">
              <a:solidFill>
                <a:srgbClr val="000000"/>
              </a:solidFill>
              <a:latin typeface="Arial Rounded MT Bold"/>
            </a:endParaRPr>
          </a:p>
        </p:txBody>
      </p:sp>
      <p:sp>
        <p:nvSpPr>
          <p:cNvPr id="106"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7"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FA3B-391D-4B7D-B419-AB95D41DB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limitations or constraints that have a significant impact on this project (from Section 4.2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overall project management approach from Section 6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0C83-00CD-45D4-8C29-77AD9C19C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Management Approach</a:t>
            </a:r>
            <a:endParaRPr b="0" lang="en-US" sz="4000" spc="-1" strike="noStrike">
              <a:solidFill>
                <a:srgbClr val="000000"/>
              </a:solidFill>
              <a:latin typeface="Arial Rounded MT Bold"/>
            </a:endParaRPr>
          </a:p>
        </p:txBody>
      </p:sp>
      <p:sp>
        <p:nvSpPr>
          <p:cNvPr id="112"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0:23:57Z</dcterms:created>
  <dc:creator>Kristine Maenner</dc:creator>
  <dc:description>Version 1.1 - April, 2010</dc:description>
  <dc:language>en-US</dc:language>
  <cp:lastModifiedBy>Celia L. Shaunessy</cp:lastModifiedBy>
  <dcterms:modified xsi:type="dcterms:W3CDTF">2010-07-15T13:20:49Z</dcterms:modified>
  <cp:revision>82</cp:revision>
  <dc:subject/>
  <dc:title>Project Baseline Review (PBR) Template</dc:title>
</cp:coreProperties>
</file>